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211-F0E5-473E-BE30-DC81BD44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2D2-CE9E-4FED-9D6C-EFED9C16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B3B-E755-4B80-B82B-6476BFA1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376-EAD4-4F14-83F7-79738C38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C7E0-F45B-4C9A-BC63-1BB0E69D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2093-CB3A-413C-878A-3C3F859E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3116-3455-4831-B335-00E4F680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AC41-2C17-4218-AD09-D18EE82A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647C-244E-4232-B59B-D646CC4B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933F-AC37-4C54-A466-CF64CFB9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B9E4-2B3C-42D6-8700-57E4C2A0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3BE-0001-44FD-BF79-51F28301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D521-692A-41A4-B691-0AD1927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DEA0-22A1-4EA9-A09A-1405ADE4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AD73-FFA0-4E54-84D4-68C669A8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FD0E-FE87-4ABB-A6E7-010D12C1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BC21-E2D5-45D9-8DA3-DD25A88D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5A0-E31E-4E08-B21F-6AE092CE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A13-53C0-453E-9049-CD4B3144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5DF-53A7-4C4E-8D53-D48355FF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6F9-470E-4EF5-A145-E703E2E9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F57-E431-4F20-BB2C-ABAEDA6A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769-637F-4F9B-AE09-977A5930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F1A-2A88-45F8-859D-2BA58C4E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66AA-784B-45AE-8365-AFCC483EEF8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E621-88C0-4578-B613-41E3B6D9680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IRQu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 six-hundred second tour through The OAQPS Data Wareh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no hard hat requir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hil Dickerson, US E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1828800" cy="1514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3600" y="4691160"/>
            <a:ext cx="2155680" cy="216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nection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s to source data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S, NEI, AIR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ed to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ssions Web site, AIRQuest Maps, AIRStats, and soon AIR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tat – regional EPA Strategic Plan report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IG?  DataFed?  AIRNow Te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cent Enhanc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I 20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elli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S 2004 – 2007 at the AQS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CMAQ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P 2004 – 2007 at the AQS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CMAQ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AR from a site at University of Maryland - Baltimore Cou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nned Enhanc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implementation of Oracle Spa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llow all data to become geo-referenced and support geospatial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ons with other tools and data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Quest can serve as a single connection point, rather than systems connecting to each sourc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Quest is INSIDE EPA’s firew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 can be made, but must be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may be able to access via web services or oth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Quest is in “O&amp;M” m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s mature techn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iscover (and fund) new datasets that should b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pps and processes directly access sour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data volume reaso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easier tempor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s it eno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ata warehouse, according to Webopedia:  …generally refers to the combination of many different databases across an entire enterp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Quest is just that – combining core databases and geospatial layers that are used by air quality anal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it not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ource of “new”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Quest is a one-stop shop for air quality analyses, but does not create any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nalysis or visualization t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Quest is, at the end of the day, a massiv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L:  Extract, Transform and L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fies how to treat sour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integration and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automatically on a periodic basis, depending upon the source dataset’s updat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cle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cle Spatial Data Engine (SDE) and ArcGIS server for geospatial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does it hav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issions, ambient, census, met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to a common aggregation level – cou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orally, the data varies according to the time period of the source data system and/or the data volu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is the shortest time period availab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486400" y="6553080"/>
            <a:ext cx="542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im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76520" y="6551640"/>
            <a:ext cx="13334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a Sourc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724120"/>
            <a:ext cx="457200" cy="235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7241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Utility Configura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105000"/>
            <a:ext cx="1447920" cy="235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1050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Utility Dail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4191120"/>
            <a:ext cx="510552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804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Air Quality(AQS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3505320"/>
            <a:ext cx="14479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4290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Toxic Emission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817800"/>
            <a:ext cx="3810240" cy="220680"/>
          </a:xfrm>
          <a:prstGeom prst="rect">
            <a:avLst/>
          </a:prstGeom>
          <a:solidFill>
            <a:srgbClr val="ff99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733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Criteria Emission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2344680"/>
            <a:ext cx="228600" cy="219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344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Stack Test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1963800"/>
            <a:ext cx="533520" cy="218880"/>
          </a:xfrm>
          <a:prstGeom prst="rect">
            <a:avLst/>
          </a:prstGeom>
          <a:solidFill>
            <a:srgbClr val="99ff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963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Coal Sampling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584360"/>
            <a:ext cx="1447920" cy="218880"/>
          </a:xfrm>
          <a:prstGeom prst="rect">
            <a:avLst/>
          </a:prstGeom>
          <a:solidFill>
            <a:srgbClr val="66ff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5843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Meteorologic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03480"/>
            <a:ext cx="457200" cy="258480"/>
          </a:xfrm>
          <a:prstGeom prst="rect">
            <a:avLst/>
          </a:prstGeom>
          <a:solidFill>
            <a:srgbClr val="66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03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457200"/>
            <a:ext cx="65530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urrent Data Summary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6172200"/>
            <a:ext cx="5790960" cy="0"/>
          </a:xfrm>
          <a:prstGeom prst="line">
            <a:avLst/>
          </a:prstGeom>
          <a:ln w="507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617220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8932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456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96120" y="6172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40920" y="617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257800"/>
            <a:ext cx="4724640" cy="235080"/>
          </a:xfrm>
          <a:prstGeom prst="rect">
            <a:avLst/>
          </a:prstGeom>
          <a:solidFill>
            <a:srgbClr val="ff33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181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M Speci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4876920"/>
            <a:ext cx="6858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8769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Improv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4572000"/>
            <a:ext cx="990720" cy="228600"/>
          </a:xfrm>
          <a:prstGeom prst="rect">
            <a:avLst/>
          </a:prstGeom>
          <a:solidFill>
            <a:srgbClr val="9900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495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AIRNow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5638680"/>
            <a:ext cx="304920" cy="228600"/>
          </a:xfrm>
          <a:prstGeom prst="rect">
            <a:avLst/>
          </a:prstGeom>
          <a:solidFill>
            <a:srgbClr val="333333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638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NAT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29600" y="6172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904080" cy="523404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3581280" y="2743200"/>
            <a:ext cx="1557360" cy="1890720"/>
            <a:chOff x="3581280" y="2743200"/>
            <a:chExt cx="1557360" cy="18907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3581280" y="2743200"/>
              <a:ext cx="155736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886200" y="2971800"/>
              <a:ext cx="762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6666"/>
                  </a:solidFill>
                  <a:latin typeface="Arial Black"/>
                </a:rPr>
                <a:t>AirQuest</a:t>
              </a:r>
              <a:endParaRPr b="0" lang="en-US" sz="9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ta Value Ch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Quest lives in Section 3: Aggregation, Integration, Processing and Mod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I, AQS, AIRNow, etc. are the Section 2 Primary Storag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Explorer, The Google Earth Emissions Site, AIRQuest Maps, and other tools connect to AIRQuest to do analysis and visualization (Section 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904080" cy="52340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3581280" y="2743200"/>
            <a:ext cx="1557360" cy="1890720"/>
            <a:chOff x="3581280" y="2743200"/>
            <a:chExt cx="1557360" cy="189072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3581280" y="2743200"/>
              <a:ext cx="155736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86200" y="2971800"/>
              <a:ext cx="762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6666"/>
                  </a:solidFill>
                  <a:latin typeface="Arial Black"/>
                </a:rPr>
                <a:t>AirQuest</a:t>
              </a:r>
              <a:endParaRPr b="0" lang="en-US" sz="9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8:43:43Z</dcterms:created>
  <dc:creator> </dc:creator>
  <dc:description/>
  <dc:language>en-US</dc:language>
  <cp:lastModifiedBy>Phil Dickerson</cp:lastModifiedBy>
  <dcterms:modified xsi:type="dcterms:W3CDTF">2008-02-12T03:15:12Z</dcterms:modified>
  <cp:revision>9</cp:revision>
  <dc:subject/>
  <dc:title>Slide 1</dc:title>
</cp:coreProperties>
</file>